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2DC-8400-4DBB-BC03-E0C05D5E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326-0539-43A9-886E-3859D23E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EFC-463A-4FBA-A097-21F5DCA1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D38-7F93-40B8-B2B8-0D39380D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034-110E-40C5-A597-29BB93C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173-D753-4EE5-BB1B-BBC1614C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E04-868E-4594-8BC1-4431F730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5F4-8EBD-40FF-BC01-B0701AF8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6DD-523D-4B99-A780-4865452D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B18-C9B9-4855-8229-6004872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7FF-D806-4C3F-976C-E2B450B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EE5-2A0F-4989-AFFC-A0BC07A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7EA-5AA0-41F1-9D95-B9E69C7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F008-71A5-4B63-AE1A-DE92B189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3-11-18T18:18:51Z</dcterms:modified>
  <cp:revision>69</cp:revision>
  <dc:subject/>
  <dc:title>Molecular Genetics</dc:title>
</cp:coreProperties>
</file>